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8FE-D2B9-4798-AA80-70068340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120-E7B9-4A93-A115-7E8EEB7F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542-BB73-4661-9660-D0EC59C4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8BF-FBE0-4336-B214-A3302477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EB4-D654-42EC-B767-45B571F8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9EF-55E0-4DD7-BBAE-483ADFE4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31E-EDB0-4B9C-8A1D-FC7C2C40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1A3-FE07-49A3-8069-D81E0852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07F-0BD6-4C35-9ECF-F7EBF31F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2CE-CAC5-418B-B060-0B0D2DB8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1A4-5C41-4DE3-A344-39AFDB2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76D-0E2A-424B-B592-E3CB0F9F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7F3C-45C3-4396-89CA-ACF397D62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eaturepics.com/StockPictures/Motherboard-875712.aspx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1"/>
          <p:cNvGrpSpPr/>
          <p:nvPr/>
        </p:nvGrpSpPr>
        <p:grpSpPr>
          <a:xfrm>
            <a:off x="228600" y="228600"/>
            <a:ext cx="8686800" cy="7196400"/>
            <a:chOff x="228600" y="228600"/>
            <a:chExt cx="8686800" cy="7196400"/>
          </a:xfrm>
        </p:grpSpPr>
        <p:sp>
          <p:nvSpPr>
            <p:cNvPr id="42" name="Oval 1"/>
            <p:cNvSpPr/>
            <p:nvPr/>
          </p:nvSpPr>
          <p:spPr>
            <a:xfrm>
              <a:off x="2590560" y="2438280"/>
              <a:ext cx="2971800" cy="1584360"/>
            </a:xfrm>
            <a:prstGeom prst="ellipse">
              <a:avLst/>
            </a:prstGeom>
            <a:noFill/>
            <a:ln w="25560">
              <a:solidFill>
                <a:srgbClr val="3185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2"/>
            <p:cNvSpPr/>
            <p:nvPr/>
          </p:nvSpPr>
          <p:spPr>
            <a:xfrm>
              <a:off x="228600" y="228600"/>
              <a:ext cx="4343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Defi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 central printed circuit board in many complex electronic systems such as the personal compu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3"/>
            <p:cNvSpPr/>
            <p:nvPr/>
          </p:nvSpPr>
          <p:spPr>
            <a:xfrm>
              <a:off x="4572000" y="228600"/>
              <a:ext cx="4343400" cy="33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Characterist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otherboard provides the  electrical connections  for other components to communicate. These can include a microprocessor, main memory, external storage, video display and soun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6"/>
            <p:cNvSpPr/>
            <p:nvPr/>
          </p:nvSpPr>
          <p:spPr>
            <a:xfrm>
              <a:off x="4572000" y="413712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Non-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5"/>
            <p:cNvSpPr/>
            <p:nvPr/>
          </p:nvSpPr>
          <p:spPr>
            <a:xfrm>
              <a:off x="228600" y="4038480"/>
              <a:ext cx="4343400" cy="33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technician had to replace the motherboard in Karl’s computer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4" descr="Picture of Socket 775 motherboard isolated on wh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4114800"/>
            <a:ext cx="2857680" cy="1895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2819520" y="28195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other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6934320" y="3200400"/>
            <a:ext cx="164916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18:18Z</dcterms:created>
  <dc:creator>Administrator</dc:creator>
  <dc:description/>
  <dc:language>en-US</dc:language>
  <cp:lastModifiedBy>admin</cp:lastModifiedBy>
  <dcterms:modified xsi:type="dcterms:W3CDTF">2009-03-10T22:16:42Z</dcterms:modified>
  <cp:revision>26</cp:revision>
  <dc:subject/>
  <dc:title>Slide 1</dc:title>
</cp:coreProperties>
</file>